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F19-2D72-4D89-B1F7-AD749CD4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4DB-6100-46B7-A42B-7CAB6DC5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B7516-71E5-4E26-A5FF-3BCD3F71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8F925-7921-4786-9C51-D466C5EB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1F4DF-37C7-4DAB-9564-920EB100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FA25B-3D9C-4DF0-B5F2-05FC9840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3CF0E-1320-4B4B-82F5-2C313DEE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43B0A-B2A0-4F91-BE23-103A194B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15EB9-08E7-4440-B5C6-8C693D6E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BC9DE-434B-44E9-891E-8FC14A7F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C5444-1BF1-4030-A4E0-AAD449F7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CD4A7-5958-45A8-8060-600146A0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EFA-8BF6-4A78-882F-8CB874E2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DCFC7-D8E5-44F0-A6F9-6452ED75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11CC8-A776-408E-95AC-8D77CB7A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47439-BF9F-4EF5-9A7A-A70EAF1E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F809A-15CB-4B65-B229-0044A40B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C823E-76EB-4FD5-B1DC-ED0496EF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58E96-EC14-4B0F-A617-79402CB5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D9560-0673-4387-B4C4-92BDB7AE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4B13A-9C95-433C-9CAD-FE577907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4CF36-3DB3-4D3E-8DDB-33A0537C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B5774-E888-4DC1-834B-9AB7CBAA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621-B9BF-4DA1-84B8-D7645F2C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01F97-0EE8-48D8-8ADA-A4F235EC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FFD8C-4667-4C87-BC27-D619B805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2CBE0-0762-44AA-932B-F0543F76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0A65D-F08C-4F66-B8F8-47FB9CA1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B2CCB-8CDA-4A3B-B0EA-45F8EC82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0211F-2A9B-4FCC-8439-56C7ED1A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EACBD-DEF4-4351-8FFD-D179617C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233F8-F6D3-4DF6-99D8-AF12F18D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36139-D788-42A4-96EF-69896EF3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6B8F1-FE1C-4A26-8785-5B5DB5C9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0E26-02C8-4DFC-A5DF-844D0453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23827-6E84-4610-8D99-3CD661C8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85FCE-E682-4F5E-8872-8273080E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8FFF6-26A4-4AEA-9CB5-92735904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0164B-2032-4453-8952-72825783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D412E-067D-4839-B192-F3CC8377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71749-D3B8-450D-A3E0-4F270E86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8E82B-B940-4D46-BA5F-88BEE3A9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EAB74-E102-4C3F-ABEA-73ADD527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F7CCF-A3D1-4B31-A76F-9FF7024C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DB354-53DA-4375-B051-2C7FBC79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D45E-6CA8-48DA-AF0B-19166F95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626D3-3193-4F29-900C-3B59C82A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A539A-A91D-418C-86F4-08AC2B25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03B79-1E7D-4697-804B-A6963D13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34A95-7702-4377-9578-694DA9A5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36A93-DB9A-4473-AF3E-32BA544E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42DC-AEF2-41A5-BD73-C881C2F1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E9DD-4E96-46C0-9046-2E932885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BB88-8354-4B53-AA08-3017BB7C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6D57-0EC0-44F6-95B7-16E8B987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3530-65A5-4A37-A8D2-8B02D847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018-7CD2-4CBC-B227-8D4C1861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42FD-3236-430A-8832-B4B9D931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4415-D924-431C-91B2-F81156A9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59D1-D03F-4510-B604-56FE6152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AF9D-6700-4392-8FFE-80E70BA6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0D91-F035-4B39-B088-F88F0AD1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DB1B0-57C4-49AC-A8B2-12C769B2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AE314-39A2-42AF-B727-75E18C2E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6589C-42CC-4F10-AA00-92E86027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8AE7B-2BE4-471A-A79D-AF1F011C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8FC4B-285B-42A9-AC4D-65369DB8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D1D-E0A1-42F3-9B7D-5B54EEF2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1C3E4-AE54-43A3-9952-1DC7722D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081B3-8E2D-4785-9F40-71123705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9339C-A658-412B-BAB4-C7B6E87F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FD3E0-D589-4CB1-9EB7-5DD385DD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EFAC7-55C2-4CDB-9273-17B63E25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95362-AA16-479D-8042-D68672F7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E170A-4F15-4758-8A09-25058A11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BC6B-3781-4E1A-998D-06211FDA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749FF-07BB-4F8E-9931-377572F3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67853-DC9F-4685-92ED-2F248F8E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D8E-D351-4422-8977-156A59BF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6633-4660-47AF-A53D-0F8E5EDE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AAA19-F93A-4DDD-9091-0EDF4638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431D-300C-40CB-BD4D-D1ADF437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012EE-E3FE-4477-BE3C-6EF1FE04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F0995-F08E-4DBC-B51F-331A815B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C7FC0-4A80-48D9-95E3-D9EF7F77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EB854-2A83-4108-B758-D8E68969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ED331-3C98-4637-BE4E-E7A99323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83278-623D-4278-A6C3-CE913CC1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65C22-828D-49F9-AE4D-0166DF80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F8C9-D648-4301-AEF1-8E2CB4BF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C56BB-AD0F-4809-A5FE-0E08D31E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5E0A7-9AA4-4AD1-9AD9-E1A241C5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61744-EB11-45D8-8A72-DD4262DE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ABDAC-3B1D-4833-8DC2-7EDA9654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94815-E9C8-420E-889F-6E2EA414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E5059-5D70-4D1D-A445-E0C68C59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4D562-76F6-4312-BBCD-4F0D31B3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615C7-B657-4E90-8DCE-95D6E985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35266-54C6-462A-B5AF-D50C6F41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542CF-7A3C-4AB8-9CA8-EA97B2B5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E05-9447-44C8-8AF8-6D3FCB5C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01683-A6E8-4E37-8D69-2C6F3112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AAB902-2875-434D-B495-06A0F142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DF1AC-B90B-4BE6-AF94-3F4350D2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FBE18-049C-403C-95FC-EA566F82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E011C1-5656-483E-A0DC-9C0C5BB7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F3744-04ED-42A1-B0D3-C30FD7A3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25148C-AB99-4E46-BFD5-758EBBF0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8ED5BD-B165-4F78-8A9F-C99996B9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DE90B-5F38-48A8-8B37-81A1DEEA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5C972-E999-43CA-AA41-44F63875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389-97B3-4220-9932-9761003A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062BC-07B5-4550-9909-3D917FED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FDF3F-9440-4F94-859F-4725F924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3A4C67-D5F5-45EB-B8F5-020F4A42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8E99D-5624-4D01-8E49-9BBDD946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3A9D4-E0AB-4969-B709-5BE40E4D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B2858-E926-4F76-A84B-4621D244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B57B7-CC20-4EEB-87CF-0A8BB1F6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D6B8D-2699-412C-8168-3DA5D9F5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53960-3731-426B-90A9-97814FC1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0AC84-6193-4669-9B2D-B746A05E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5AB7-3DD3-4532-89DD-37187CD8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F2FF4-805D-41B8-9576-3B27D4DC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42BD2-5DE7-427C-8A23-4E9A6418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1CD2F-7EC1-4DD2-9858-BFB3DA5D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1CC39-CA1B-4AF3-8436-10CB78F4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E9753-E6B6-4A65-9D1B-D9D7944C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AAE914-7329-4989-8475-2E6350BD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08958A-8812-469A-B820-7B29B5B2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383F24-9CC0-4F88-98FF-715EADB9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DC175C-CFD0-4D55-9EE5-B151DBA3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5CAE0A-E3B0-4ADA-B925-386FC52A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575-EA80-4481-8344-9954FF13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D6E4C0-EEF5-491B-A8FD-E5092853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8F5E7D-4FED-4080-A294-84C14681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F91CDB-B197-4F4B-BE97-EC7FB5CA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C50EDD-5063-4C92-9E39-AE2F1E0C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8846D3-B09A-4C22-9892-71A4D5C5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FD8572-62AD-422E-A8CB-8913DE3D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62FE49-E2D5-4BB4-A758-FD8F51A2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8F47C-F71B-4926-9071-FE4A1486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13786-0D27-4ED5-8C0B-EB160C67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62B96-D222-4FFA-862A-48641829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D449-4197-44EC-BE61-532B12FF71C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2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22F5-3B7F-4A47-81A7-0E40DDBA7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7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2F41-AE3A-4DA3-9435-AA134843FE3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2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53F4-5296-4A0A-B8C8-968013F9B7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17CA-66F8-4D98-BE9B-C68DBB170C1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5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4192-7E7F-4109-A319-A10A9D8396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1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AC04-4945-4433-BDDC-2BC0E847D86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8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B702-5161-4698-8020-A1D5D4C35C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3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4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4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3767-BF89-45F9-B4F4-6FAB46C40C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9BD3-9693-49F9-9714-574BA1343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BD28-4DA1-479A-A725-1CFF02FDA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7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7537-9FB9-4DE9-B5A2-62587B41E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cc"/>
                </a:solidFill>
                <a:uFillTx/>
                <a:latin typeface="Tahoma"/>
              </a:rPr>
              <a:t>le chateau de Shaq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Ethan Tumeins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3047760" cy="245088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3048120" y="152280"/>
            <a:ext cx="2571480" cy="178128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6934320" y="3124080"/>
            <a:ext cx="1942920" cy="145728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4"/>
          <a:stretch/>
        </p:blipFill>
        <p:spPr>
          <a:xfrm>
            <a:off x="457200" y="2971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maison de Shaq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71500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638680" y="25146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943600" y="220968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e chateau de Shaq a hiut chambres, a un gymnas,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à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l’int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é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ieur une cour de basketball, une vapeur salle, une sauna, et neuf salles de bains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72" name="" descr="shaqs star island estate Shaquille ONeals House in Miami"/>
          <p:cNvPicPr/>
          <p:nvPr/>
        </p:nvPicPr>
        <p:blipFill>
          <a:blip r:embed="rId1"/>
          <a:stretch/>
        </p:blipFill>
        <p:spPr>
          <a:xfrm>
            <a:off x="1371600" y="1752480"/>
            <a:ext cx="434340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hambre de Sha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4" name="" descr="a26 star island15 Shaquille ONeals House in Miami"/>
          <p:cNvPicPr/>
          <p:nvPr/>
        </p:nvPicPr>
        <p:blipFill>
          <a:blip r:embed="rId2"/>
          <a:stretch/>
        </p:blipFill>
        <p:spPr>
          <a:xfrm>
            <a:off x="1752480" y="2590920"/>
            <a:ext cx="5181840" cy="34542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2438280" y="1752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haq’s chambr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086600" y="312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52280" y="3048120"/>
            <a:ext cx="1524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a chambre de Shaq est beige, Shaq a treize  chambres dans sa maison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salle de bains de Shaq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209840" cy="277668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228600" y="2819520"/>
            <a:ext cx="144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a salle de bains de Shaq est blanche, Shaq a neuf salles de bains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 salon de Shaq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3800520" cy="25434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6781680" y="3276720"/>
            <a:ext cx="2210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29400" y="312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04920" y="3124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salon de Shaq est blanc, et c’est super- formale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salle à mang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3810240" cy="25336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3809880" cy="253368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1600200" y="5562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a salle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à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anger de Shaq est marron, C’est comme un  restaurant avec des tables et des bancs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gymnas de Shaq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324320" cy="288288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228600" y="25146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e gymnas de Shaq est blanc et noir, et formidable!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9:08:53Z</dcterms:created>
  <dc:creator>edill</dc:creator>
  <dc:description/>
  <dc:language>en-US</dc:language>
  <cp:lastModifiedBy>edill</cp:lastModifiedBy>
  <dcterms:modified xsi:type="dcterms:W3CDTF">2011-11-15T19:57:11Z</dcterms:modified>
  <cp:revision>6</cp:revision>
  <dc:subject/>
  <dc:title>LaBron James’s House</dc:title>
</cp:coreProperties>
</file>